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wmf" ContentType="image/x-wmf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3C0D-37AC-4D0E-9807-84DC33785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neogenesis == making new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effect, photosynthesis is respiration run backwards powered by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ains little energy because it is fully oxid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 a series of steps to synthesize a stable energy storag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P = ribulose bis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isco = ribulose bisphosphate carbox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51D3-509A-451C-8D5E-2EEBC342B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28CD-5676-4F73-A207-0BF9DF910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39C8-206A-48CA-9586-CAF9EBDD2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3C76-80D6-4478-858C-0BB1283F7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6EB6-E1B7-4E13-A9B1-28EA8D72E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CE31-2128-4672-9739-CCB076AF7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94FD-2BAB-489E-B44E-D270C23BC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8052-94DF-4E7C-8330-AF2FAC08A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E8E3-76A0-454C-B60E-3192A727B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8230-E363-44BB-B58C-35B0B2D93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8C08-2657-41CD-9F98-A559D95B9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6387-B7BE-4887-BB51-A4627977C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E6B3-B130-441A-935F-C94781DAE17B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0" y="3733920"/>
            <a:ext cx="152388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2860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      The Calvin Cycle</a:t>
            </a:r>
            <a:br>
              <a:rPr sz="3600"/>
            </a:b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Lif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from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i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819440" cy="1144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14353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638680" y="3581280"/>
            <a:ext cx="1371600" cy="685800"/>
          </a:xfrm>
          <a:prstGeom prst="ellipse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86960" y="608760"/>
            <a:ext cx="1852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110200" y="1539720"/>
            <a:ext cx="380880" cy="838080"/>
            <a:chOff x="5110200" y="1539720"/>
            <a:chExt cx="380880" cy="838080"/>
          </a:xfrm>
        </p:grpSpPr>
        <p:sp>
          <p:nvSpPr>
            <p:cNvPr id="345" name=""/>
            <p:cNvSpPr/>
            <p:nvPr/>
          </p:nvSpPr>
          <p:spPr>
            <a:xfrm>
              <a:off x="5110200" y="15397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10200" y="19969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109760" y="2361600"/>
            <a:ext cx="241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6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19480" y="329256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00920" y="329256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57960" y="3656880"/>
            <a:ext cx="1262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21480" y="3656880"/>
            <a:ext cx="124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100920" y="4511520"/>
            <a:ext cx="380880" cy="1295280"/>
            <a:chOff x="6100920" y="4511520"/>
            <a:chExt cx="380880" cy="1295280"/>
          </a:xfrm>
        </p:grpSpPr>
        <p:sp>
          <p:nvSpPr>
            <p:cNvPr id="353" name=""/>
            <p:cNvSpPr/>
            <p:nvPr/>
          </p:nvSpPr>
          <p:spPr>
            <a:xfrm>
              <a:off x="6100920" y="45115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00920" y="49687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0920" y="54259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60840" y="5774760"/>
            <a:ext cx="1768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72320" y="1692360"/>
            <a:ext cx="838080" cy="457200"/>
          </a:xfrm>
          <a:custGeom>
            <a:avLst/>
            <a:gdLst>
              <a:gd name="textAreaLeft" fmla="*/ 112320 w 838080"/>
              <a:gd name="textAreaRight" fmla="*/ 725760 w 8380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13640" y="1431720"/>
            <a:ext cx="111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96720" y="1844280"/>
            <a:ext cx="115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AD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7920" y="3749760"/>
            <a:ext cx="761760" cy="30456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6862680" y="4282560"/>
            <a:ext cx="2224440" cy="902880"/>
            <a:chOff x="6862680" y="4282560"/>
            <a:chExt cx="2224440" cy="902880"/>
          </a:xfrm>
        </p:grpSpPr>
        <p:sp>
          <p:nvSpPr>
            <p:cNvPr id="362" name=""/>
            <p:cNvSpPr/>
            <p:nvPr/>
          </p:nvSpPr>
          <p:spPr>
            <a:xfrm>
              <a:off x="6862680" y="4543200"/>
              <a:ext cx="838080" cy="45720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3d16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81680" y="4282560"/>
              <a:ext cx="1285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 NAD</a:t>
              </a:r>
              <a:r>
                <a:rPr b="1" lang="en-US" sz="2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73400" y="4695480"/>
              <a:ext cx="1413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 NADH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862680" y="5121000"/>
            <a:ext cx="1967760" cy="902160"/>
            <a:chOff x="6862680" y="5121000"/>
            <a:chExt cx="1967760" cy="902160"/>
          </a:xfrm>
        </p:grpSpPr>
        <p:sp>
          <p:nvSpPr>
            <p:cNvPr id="366" name=""/>
            <p:cNvSpPr/>
            <p:nvPr/>
          </p:nvSpPr>
          <p:spPr>
            <a:xfrm>
              <a:off x="6862680" y="5381640"/>
              <a:ext cx="838080" cy="45684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79920 h 456840"/>
                <a:gd name="textAreaBottom" fmla="*/ 33120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3d16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74480" y="512100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ADP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73760" y="553320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66640" y="685800"/>
            <a:ext cx="3894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Remember G3P?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8680" y="1751760"/>
            <a:ext cx="2265480" cy="6116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19520" y="1371600"/>
            <a:ext cx="761760" cy="5105520"/>
          </a:xfrm>
          <a:prstGeom prst="upArrow">
            <a:avLst>
              <a:gd name="adj1" fmla="val 50000"/>
              <a:gd name="adj2" fmla="val 167557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rcRect l="10128" t="0" r="11250" b="0"/>
          <a:stretch/>
        </p:blipFill>
        <p:spPr>
          <a:xfrm>
            <a:off x="1217520" y="550800"/>
            <a:ext cx="6613560" cy="63072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328920" y="5608800"/>
            <a:ext cx="3100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lyceraldehyde 3-phosphate (3C) (G3P)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84280" y="6262560"/>
            <a:ext cx="9975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lucose and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ther sugars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76200" y="2255760"/>
            <a:ext cx="2140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ibulose 1,5-bisphosphate 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RuBP) </a:t>
            </a:r>
            <a:r>
              <a:rPr b="1" lang="en-US" sz="1300" spc="-1" strike="noStrike">
                <a:solidFill>
                  <a:srgbClr val="cc0000"/>
                </a:solidFill>
                <a:latin typeface="Arial"/>
              </a:rPr>
              <a:t>(5C)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90120" y="2263680"/>
            <a:ext cx="244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-phosphoglycerate (3C) (PGA)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69240" y="44132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lyceraldehyde 3-phosphate (3C)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07760" y="445464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lyceraldehyde 3-phosphate 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96520" y="4638600"/>
            <a:ext cx="805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3C) (G3P)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0520" y="1969920"/>
            <a:ext cx="649800" cy="1983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0000"/>
                </a:solidFill>
                <a:latin typeface="Arial"/>
              </a:rPr>
              <a:t>Rubisco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55200" y="3252960"/>
            <a:ext cx="823680" cy="3963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forming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uBP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15920" y="3851280"/>
            <a:ext cx="842040" cy="3963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verse of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52960" y="2712960"/>
            <a:ext cx="1207800" cy="1983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bon fixation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82520" y="785880"/>
            <a:ext cx="1701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roma of chloroplast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65840" y="1036800"/>
            <a:ext cx="1244160" cy="4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CO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28760" y="3595680"/>
            <a:ext cx="723240" cy="19836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 NADPH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13480" y="347508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 ATP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57680" y="305424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 ADP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96640" y="257976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 ATP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47120" y="306720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 ADP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38120" y="4057560"/>
            <a:ext cx="660600" cy="19836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 NADP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68960" y="3703680"/>
            <a:ext cx="2293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73680" y="3370320"/>
            <a:ext cx="230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,3-bisphosphoglycerate (3C)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02520" y="4237200"/>
            <a:ext cx="2293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P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lvin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o G-3-P and Beyond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Glyceraldehyde-3-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d product of Calvin cyc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ric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3 carb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suga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3 photosynthesi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G-3-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important intermedi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G-3-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arbohydrat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mino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nucleic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352680" y="4273560"/>
            <a:ext cx="2590920" cy="25844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ubisco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nzyme which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fixes carb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from ai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ribulose bisphosphate carboxyl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e most important enzyme in the world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t makes life out of air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finitely the most abundant 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ccounting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accounting is complicate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turns of Calvin cycle = 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3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3P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(3C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4" marL="1735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6 turns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Calvin cycle = 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(6C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6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(6C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18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ATP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NADPH </a:t>
            </a:r>
            <a:r>
              <a:rPr b="1" lang="en-US" sz="3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ny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ATP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eft over from light reactions will be used elsewhere by the cell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rcRect l="0" t="0" r="0" b="3446"/>
          <a:stretch/>
        </p:blipFill>
        <p:spPr>
          <a:xfrm>
            <a:off x="4610160" y="1289160"/>
            <a:ext cx="4533840" cy="29779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 summa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Light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s byproduc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3P (sugar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generated </a:t>
            </a:r>
            <a:r>
              <a:rPr b="1" lang="en-US" sz="2800" spc="-1" strike="noStrike">
                <a:solidFill>
                  <a:srgbClr val="e06f00"/>
                </a:solidFill>
                <a:latin typeface="Arial"/>
              </a:rPr>
              <a:t>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generated </a:t>
            </a:r>
            <a:r>
              <a:rPr b="1" lang="en-US" sz="2800" spc="-1" strike="noStrike">
                <a:solidFill>
                  <a:srgbClr val="e06f00"/>
                </a:solidFill>
                <a:latin typeface="Arial"/>
              </a:rPr>
              <a:t>N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7162920" y="5105520"/>
            <a:ext cx="1487520" cy="1523880"/>
            <a:chOff x="7162920" y="5105520"/>
            <a:chExt cx="1487520" cy="1523880"/>
          </a:xfrm>
        </p:grpSpPr>
        <p:pic>
          <p:nvPicPr>
            <p:cNvPr id="407" name="" descr=""/>
            <p:cNvPicPr/>
            <p:nvPr/>
          </p:nvPicPr>
          <p:blipFill>
            <a:blip r:embed="rId2"/>
            <a:stretch/>
          </p:blipFill>
          <p:spPr>
            <a:xfrm>
              <a:off x="7162920" y="5105520"/>
              <a:ext cx="1487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296480" y="5600880"/>
              <a:ext cx="1218960" cy="533160"/>
            </a:xfrm>
            <a:prstGeom prst="ellipse">
              <a:avLst/>
            </a:prstGeom>
            <a:solidFill>
              <a:srgbClr val="b7c1e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14120" y="5606280"/>
              <a:ext cx="118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ADP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446800" y="5105520"/>
            <a:ext cx="1487520" cy="1523880"/>
            <a:chOff x="5446800" y="5105520"/>
            <a:chExt cx="1487520" cy="1523880"/>
          </a:xfrm>
        </p:grpSpPr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5446800" y="5105520"/>
              <a:ext cx="1487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5580360" y="5600880"/>
              <a:ext cx="1218960" cy="533160"/>
            </a:xfrm>
            <a:prstGeom prst="ellipse">
              <a:avLst/>
            </a:prstGeom>
            <a:solidFill>
              <a:srgbClr val="b7c1e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25800" y="560628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DP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 of 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18920" y="2361960"/>
            <a:ext cx="82818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energy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’s the energy used for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 will the C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 used for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will th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 else is involved…not listed in this equation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838080" y="1295280"/>
            <a:ext cx="7772400" cy="914400"/>
            <a:chOff x="838080" y="1295280"/>
            <a:chExt cx="7772400" cy="914400"/>
          </a:xfrm>
        </p:grpSpPr>
        <p:sp>
          <p:nvSpPr>
            <p:cNvPr id="417" name=""/>
            <p:cNvSpPr/>
            <p:nvPr/>
          </p:nvSpPr>
          <p:spPr>
            <a:xfrm>
              <a:off x="838080" y="1295280"/>
              <a:ext cx="7772400" cy="9144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156320" y="1479240"/>
              <a:ext cx="6743160" cy="727560"/>
              <a:chOff x="1156320" y="1479240"/>
              <a:chExt cx="6743160" cy="727560"/>
            </a:xfrm>
          </p:grpSpPr>
          <p:sp>
            <p:nvSpPr>
              <p:cNvPr id="419" name=""/>
              <p:cNvSpPr/>
              <p:nvPr/>
            </p:nvSpPr>
            <p:spPr>
              <a:xfrm>
                <a:off x="1156320" y="14882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C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48440" y="14882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H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39600" y="1505520"/>
                <a:ext cx="125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12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170120" y="1488240"/>
                <a:ext cx="7293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657600" y="1479240"/>
                <a:ext cx="126720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light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energy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911840" y="1485000"/>
                <a:ext cx="48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16108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0608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5672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pporting a biosphe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n global scale,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tosynthesis i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st important proces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 the continuation of life on Ear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year photosynthesis synthesiz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160 billion tons of carbohydra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eterotrophs are dependent on plants as food source for fuel &amp; raw materia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rcRect l="11702" t="0" r="9000" b="0"/>
          <a:stretch/>
        </p:blipFill>
        <p:spPr>
          <a:xfrm>
            <a:off x="6400800" y="380880"/>
            <a:ext cx="26668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poetic perspective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the solid material of every </a:t>
            </a:r>
            <a:r>
              <a:rPr b="1" lang="en-US" sz="3000" spc="-1" strike="noStrike" u="sng">
                <a:solidFill>
                  <a:srgbClr val="008000"/>
                </a:solidFill>
                <a:uFillTx/>
                <a:latin typeface="Arial"/>
              </a:rPr>
              <a:t>pla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s built by sunlight out of thin ai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the solid material of every </a:t>
            </a:r>
            <a:r>
              <a:rPr b="1" lang="en-US" sz="3000" spc="-1" strike="noStrike" u="sng">
                <a:solidFill>
                  <a:srgbClr val="660000"/>
                </a:solidFill>
                <a:uFillTx/>
                <a:latin typeface="Arial"/>
              </a:rPr>
              <a:t>animal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was built from plant materia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4327560"/>
            <a:ext cx="5943600" cy="19213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n all the cats, dogs,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ats, people &amp; elephants…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re really strands of air woven together by sunlight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10280" y="3749760"/>
            <a:ext cx="1828800" cy="12794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1960 h 1279440"/>
              <a:gd name="textAreaBottom" fmla="*/ 98748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09480" y="3855960"/>
            <a:ext cx="1524240" cy="1067040"/>
            <a:chOff x="609480" y="3855960"/>
            <a:chExt cx="1524240" cy="1067040"/>
          </a:xfrm>
        </p:grpSpPr>
        <p:sp>
          <p:nvSpPr>
            <p:cNvPr id="436" name=""/>
            <p:cNvSpPr/>
            <p:nvPr/>
          </p:nvSpPr>
          <p:spPr>
            <a:xfrm flipH="1">
              <a:off x="609480" y="3855960"/>
              <a:ext cx="1524240" cy="10670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360" y="405504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air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9440" y="685440"/>
            <a:ext cx="7772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he Calvin Cycle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9440" y="685800"/>
            <a:ext cx="7772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116a"/>
                </a:solidFill>
                <a:latin typeface="Arial"/>
              </a:rPr>
              <a:t>Whoops! Wrong Calvi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7372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what it means to be a 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plant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to produce all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organic molecule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necessary for grow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rbohydrates, lipids, proteins, nucleic acid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to store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hemical energy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(ATP) produced from light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stable form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 be moved around pla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aved for a rainy d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utotroph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85800" y="3276000"/>
            <a:ext cx="7772400" cy="838800"/>
            <a:chOff x="685800" y="3276000"/>
            <a:chExt cx="7772400" cy="838800"/>
          </a:xfrm>
        </p:grpSpPr>
        <p:sp>
          <p:nvSpPr>
            <p:cNvPr id="114" name=""/>
            <p:cNvSpPr/>
            <p:nvPr/>
          </p:nvSpPr>
          <p:spPr>
            <a:xfrm>
              <a:off x="685800" y="3276720"/>
              <a:ext cx="7772400" cy="7617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761760" y="3276000"/>
              <a:ext cx="7361640" cy="838800"/>
              <a:chOff x="761760" y="3276000"/>
              <a:chExt cx="7361640" cy="838800"/>
            </a:xfrm>
          </p:grpSpPr>
          <p:sp>
            <p:nvSpPr>
              <p:cNvPr id="116" name=""/>
              <p:cNvSpPr/>
              <p:nvPr/>
            </p:nvSpPr>
            <p:spPr>
              <a:xfrm>
                <a:off x="2047680" y="3276000"/>
                <a:ext cx="6075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water </a:t>
                </a: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energy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glucose </a:t>
                </a: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oxygen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1760" y="3308040"/>
                <a:ext cx="134064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carbon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dioxide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685800" y="4038480"/>
            <a:ext cx="7772400" cy="914400"/>
            <a:chOff x="685800" y="4038480"/>
            <a:chExt cx="7772400" cy="914400"/>
          </a:xfrm>
        </p:grpSpPr>
        <p:sp>
          <p:nvSpPr>
            <p:cNvPr id="119" name=""/>
            <p:cNvSpPr/>
            <p:nvPr/>
          </p:nvSpPr>
          <p:spPr>
            <a:xfrm>
              <a:off x="685800" y="4038480"/>
              <a:ext cx="7772400" cy="9144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004040" y="4222440"/>
              <a:ext cx="6743160" cy="727560"/>
              <a:chOff x="1004040" y="4222440"/>
              <a:chExt cx="6743160" cy="727560"/>
            </a:xfrm>
          </p:grpSpPr>
          <p:sp>
            <p:nvSpPr>
              <p:cNvPr id="121" name=""/>
              <p:cNvSpPr/>
              <p:nvPr/>
            </p:nvSpPr>
            <p:spPr>
              <a:xfrm>
                <a:off x="1004040" y="42314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C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396160" y="42314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H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287320" y="4248720"/>
                <a:ext cx="125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12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17840" y="4231440"/>
                <a:ext cx="7293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05320" y="4222440"/>
                <a:ext cx="126720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light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energy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59560" y="4228200"/>
                <a:ext cx="48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008800" y="42588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3800" y="42588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04440" y="42588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king energy &amp; organic molecules from light energy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8f0f"/>
                </a:solidFill>
                <a:latin typeface="Arial"/>
              </a:rPr>
              <a:t>photosynthe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 reacti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Convert solar energy to chemical energy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ADPH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What can we do now?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19000" y="2589840"/>
            <a:ext cx="206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1440" y="3275640"/>
            <a:ext cx="38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reducing power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05200" y="4874760"/>
            <a:ext cx="482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c8f0f"/>
                </a:solidFill>
                <a:latin typeface="Symbol"/>
                <a:ea typeface="Symbol"/>
              </a:rPr>
              <a:t></a:t>
            </a:r>
            <a:r>
              <a:rPr b="1" lang="en-US" sz="4600" spc="-1" strike="noStrike">
                <a:solidFill>
                  <a:srgbClr val="0c8f0f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c8f0f"/>
                </a:solidFill>
                <a:latin typeface="Symbol"/>
                <a:ea typeface="Symbol"/>
              </a:rPr>
              <a:t></a:t>
            </a:r>
            <a:r>
              <a:rPr b="1" lang="en-US" sz="4600" spc="-1" strike="noStrike">
                <a:solidFill>
                  <a:srgbClr val="0c8f0f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c8f0f"/>
                </a:solidFill>
                <a:latin typeface="Arial"/>
              </a:rPr>
              <a:t>build stuff </a:t>
            </a:r>
            <a:r>
              <a:rPr b="1" i="1" lang="en-US" sz="4600" spc="-1" strike="noStrike">
                <a:solidFill>
                  <a:srgbClr val="0c8f0f"/>
                </a:solidFill>
                <a:latin typeface="Arial"/>
              </a:rPr>
              <a:t>!!</a:t>
            </a:r>
            <a:endParaRPr b="0" lang="en-US" sz="4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is that helpful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4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nt to make C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6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ynthe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ow? From what?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hat raw materials are availabl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1120" y="3677400"/>
            <a:ext cx="106164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3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8280" y="5612400"/>
            <a:ext cx="187704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433760"/>
            <a:ext cx="228600" cy="1219320"/>
          </a:xfrm>
          <a:prstGeom prst="downArrow">
            <a:avLst>
              <a:gd name="adj1" fmla="val 50000"/>
              <a:gd name="adj2" fmla="val 133346"/>
            </a:avLst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556160"/>
            <a:ext cx="685800" cy="838080"/>
          </a:xfrm>
          <a:custGeom>
            <a:avLst/>
            <a:gdLst>
              <a:gd name="textAreaLeft" fmla="*/ 91800 w 685800"/>
              <a:gd name="textAreaRight" fmla="*/ 594000 w 685800"/>
              <a:gd name="textAreaTop" fmla="*/ 153360 h 838080"/>
              <a:gd name="textAreaBottom" fmla="*/ 573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2" stAng="-5400000" swAng="-5400000"/>
                <a:lnTo>
                  <a:pt x="0" y="10824"/>
                </a:lnTo>
                <a:arcTo wR="21600" hR="7912" stAng="10800000" swAng="-3263100"/>
                <a:lnTo>
                  <a:pt x="16118" y="21341"/>
                </a:lnTo>
                <a:lnTo>
                  <a:pt x="21600" y="17280"/>
                </a:lnTo>
                <a:lnTo>
                  <a:pt x="16118" y="12701"/>
                </a:lnTo>
                <a:lnTo>
                  <a:pt x="16118" y="15565"/>
                </a:lnTo>
                <a:arcTo wR="21600" hR="7912" stAng="7536900" swAng="3027713"/>
                <a:lnTo>
                  <a:pt x="369" y="9368"/>
                </a:lnTo>
                <a:arcTo wR="21600" hR="7912" stAng="-10564613" swAng="5164613"/>
                <a:close/>
              </a:path>
              <a:path fill="darkenLess" w="21600" h="21600">
                <a:moveTo>
                  <a:pt x="21600" y="0"/>
                </a:moveTo>
                <a:arcTo wR="21600" hR="7912" stAng="-5400000" swAng="-5400000"/>
                <a:lnTo>
                  <a:pt x="0" y="7912"/>
                </a:lnTo>
                <a:arcTo wR="21600" hR="7912" stAng="10800000" swAng="-235387"/>
                <a:lnTo>
                  <a:pt x="369" y="9368"/>
                </a:lnTo>
                <a:arcTo wR="21600" hR="7912" stAng="-10564613" swAng="5164613"/>
                <a:close/>
              </a:path>
            </a:pathLst>
          </a:custGeom>
          <a:solidFill>
            <a:srgbClr val="0f11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65840" y="4371480"/>
            <a:ext cx="135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5057280"/>
            <a:ext cx="111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NAD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4556160"/>
            <a:ext cx="2133360" cy="9144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duc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6360" y="4738320"/>
            <a:ext cx="2553480" cy="4899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bon fixa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467480" y="5334120"/>
            <a:ext cx="1487520" cy="1523880"/>
            <a:chOff x="7467480" y="5334120"/>
            <a:chExt cx="1487520" cy="152388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7467480" y="5334120"/>
              <a:ext cx="1487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601040" y="5829480"/>
              <a:ext cx="1218960" cy="533160"/>
            </a:xfrm>
            <a:prstGeom prst="ellipse">
              <a:avLst/>
            </a:prstGeom>
            <a:solidFill>
              <a:srgbClr val="b7c1e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18680" y="5834880"/>
              <a:ext cx="118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ADP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CO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C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has very little chemical ener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ully oxidiz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ains a lot of chemical ener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duc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dergoni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duction of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ceeds in many small uphill step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catalyzed by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ecific 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ing energy stored in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Light reactions to Calvin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lvin cycl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hloroplast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trom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products of light reactions to drive synthesis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0" r="0" b="3446"/>
          <a:stretch/>
        </p:blipFill>
        <p:spPr>
          <a:xfrm>
            <a:off x="3809880" y="3355920"/>
            <a:ext cx="533412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82520" y="6143760"/>
            <a:ext cx="16905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080" y="2635920"/>
            <a:ext cx="1206360" cy="8715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starch,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sucrose,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cellulose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&amp; mo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24360" y="1752480"/>
            <a:ext cx="4190760" cy="4648320"/>
            <a:chOff x="3024360" y="1752480"/>
            <a:chExt cx="4190760" cy="4648320"/>
          </a:xfrm>
        </p:grpSpPr>
        <p:sp>
          <p:nvSpPr>
            <p:cNvPr id="158" name=""/>
            <p:cNvSpPr/>
            <p:nvPr/>
          </p:nvSpPr>
          <p:spPr>
            <a:xfrm>
              <a:off x="4959360" y="1752480"/>
              <a:ext cx="304920" cy="381240"/>
            </a:xfrm>
            <a:prstGeom prst="downArrow">
              <a:avLst>
                <a:gd name="adj1" fmla="val 50000"/>
                <a:gd name="adj2" fmla="val 3125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24360" y="2209680"/>
              <a:ext cx="4190760" cy="4191120"/>
            </a:xfrm>
            <a:prstGeom prst="ellipse">
              <a:avLst/>
            </a:prstGeom>
            <a:noFill/>
            <a:ln w="12708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778280" y="1219320"/>
            <a:ext cx="1330560" cy="609480"/>
            <a:chOff x="4778280" y="1219320"/>
            <a:chExt cx="1330560" cy="609480"/>
          </a:xfrm>
        </p:grpSpPr>
        <p:grpSp>
          <p:nvGrpSpPr>
            <p:cNvPr id="161" name=""/>
            <p:cNvGrpSpPr/>
            <p:nvPr/>
          </p:nvGrpSpPr>
          <p:grpSpPr>
            <a:xfrm>
              <a:off x="4778280" y="1219320"/>
              <a:ext cx="668520" cy="609480"/>
              <a:chOff x="4778280" y="1219320"/>
              <a:chExt cx="668520" cy="60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4807080" y="1219320"/>
                <a:ext cx="609480" cy="6094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8280" y="123300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1C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420520" y="122544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90120" y="684720"/>
            <a:ext cx="2672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alvin cycle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169" name=""/>
            <p:cNvSpPr/>
            <p:nvPr/>
          </p:nvSpPr>
          <p:spPr>
            <a:xfrm>
              <a:off x="3992400" y="2057400"/>
              <a:ext cx="60984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112920" y="2176920"/>
            <a:ext cx="94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BP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804000" y="4336200"/>
            <a:ext cx="668520" cy="610200"/>
            <a:chOff x="6804000" y="4336200"/>
            <a:chExt cx="668520" cy="610200"/>
          </a:xfrm>
        </p:grpSpPr>
        <p:sp>
          <p:nvSpPr>
            <p:cNvPr id="173" name=""/>
            <p:cNvSpPr/>
            <p:nvPr/>
          </p:nvSpPr>
          <p:spPr>
            <a:xfrm>
              <a:off x="6808680" y="4336920"/>
              <a:ext cx="60984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04000" y="43362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800600" y="2286000"/>
            <a:ext cx="1143000" cy="304920"/>
          </a:xfrm>
          <a:prstGeom prst="rect">
            <a:avLst/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7520" y="2208960"/>
            <a:ext cx="12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Rubisc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25040" y="1577160"/>
            <a:ext cx="2113200" cy="36828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1. Carbon fix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7920" y="5582520"/>
            <a:ext cx="1575000" cy="36828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2. Reduc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080" y="1747080"/>
            <a:ext cx="1895400" cy="64260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3. Regeneration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of RuB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19120" y="246132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bulose bisphospha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32400" y="2710080"/>
            <a:ext cx="1587240" cy="823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ibulos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isphosphat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arboxylas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42440" y="3587400"/>
            <a:ext cx="677880" cy="66204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801360" y="3527280"/>
            <a:ext cx="344880" cy="49500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1146240" y="3492360"/>
            <a:ext cx="92160" cy="46368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27320" y="6003000"/>
            <a:ext cx="2206080" cy="856080"/>
            <a:chOff x="2227320" y="6003000"/>
            <a:chExt cx="2206080" cy="856080"/>
          </a:xfrm>
        </p:grpSpPr>
        <p:sp>
          <p:nvSpPr>
            <p:cNvPr id="186" name=""/>
            <p:cNvSpPr/>
            <p:nvPr/>
          </p:nvSpPr>
          <p:spPr>
            <a:xfrm flipH="1">
              <a:off x="3595320" y="6202440"/>
              <a:ext cx="838080" cy="53352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27480" y="6429960"/>
              <a:ext cx="1203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6 NAD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27320" y="6003000"/>
              <a:ext cx="1404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6 NADPH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586560" y="5515560"/>
            <a:ext cx="1826640" cy="886320"/>
            <a:chOff x="6586560" y="5515560"/>
            <a:chExt cx="1826640" cy="886320"/>
          </a:xfrm>
        </p:grpSpPr>
        <p:sp>
          <p:nvSpPr>
            <p:cNvPr id="190" name=""/>
            <p:cNvSpPr/>
            <p:nvPr/>
          </p:nvSpPr>
          <p:spPr>
            <a:xfrm>
              <a:off x="6586560" y="5745240"/>
              <a:ext cx="838080" cy="53352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10960" y="5972760"/>
              <a:ext cx="100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6 AD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10960" y="5515560"/>
              <a:ext cx="97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6 AT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568520" y="2788200"/>
            <a:ext cx="1766520" cy="886320"/>
            <a:chOff x="1568520" y="2788200"/>
            <a:chExt cx="1766520" cy="886320"/>
          </a:xfrm>
        </p:grpSpPr>
        <p:sp>
          <p:nvSpPr>
            <p:cNvPr id="194" name=""/>
            <p:cNvSpPr/>
            <p:nvPr/>
          </p:nvSpPr>
          <p:spPr>
            <a:xfrm flipH="1">
              <a:off x="2496960" y="301788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68520" y="3245400"/>
              <a:ext cx="100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3 AD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97320" y="2788200"/>
              <a:ext cx="97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3 AT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042920" y="3854160"/>
            <a:ext cx="1392480" cy="89748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used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to make</a:t>
            </a:r>
            <a:br>
              <a:rPr sz="2200"/>
            </a:b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glucose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033880" y="6051600"/>
            <a:ext cx="668520" cy="609480"/>
            <a:chOff x="5033880" y="6051600"/>
            <a:chExt cx="668520" cy="609480"/>
          </a:xfrm>
        </p:grpSpPr>
        <p:sp>
          <p:nvSpPr>
            <p:cNvPr id="199" name=""/>
            <p:cNvSpPr/>
            <p:nvPr/>
          </p:nvSpPr>
          <p:spPr>
            <a:xfrm>
              <a:off x="5062680" y="60516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33880" y="60652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787480" y="4821120"/>
            <a:ext cx="668520" cy="609480"/>
            <a:chOff x="2787480" y="4821120"/>
            <a:chExt cx="668520" cy="609480"/>
          </a:xfrm>
        </p:grpSpPr>
        <p:sp>
          <p:nvSpPr>
            <p:cNvPr id="202" name=""/>
            <p:cNvSpPr/>
            <p:nvPr/>
          </p:nvSpPr>
          <p:spPr>
            <a:xfrm>
              <a:off x="2816280" y="48211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87480" y="48348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881000" y="3025800"/>
            <a:ext cx="2233800" cy="1992240"/>
            <a:chOff x="1881000" y="3025800"/>
            <a:chExt cx="2233800" cy="1992240"/>
          </a:xfrm>
        </p:grpSpPr>
        <p:sp>
          <p:nvSpPr>
            <p:cNvPr id="205" name=""/>
            <p:cNvSpPr/>
            <p:nvPr/>
          </p:nvSpPr>
          <p:spPr>
            <a:xfrm>
              <a:off x="3124080" y="4427640"/>
              <a:ext cx="990720" cy="53316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 rot="19096800">
              <a:off x="2415600" y="3058560"/>
              <a:ext cx="833400" cy="1926000"/>
            </a:xfrm>
            <a:custGeom>
              <a:avLst/>
              <a:gdLst>
                <a:gd name="textAreaLeft" fmla="*/ -360 w 833400"/>
                <a:gd name="textAreaRight" fmla="*/ 833400 w 833400"/>
                <a:gd name="textAreaTop" fmla="*/ 360 h 1926000"/>
                <a:gd name="textAreaBottom" fmla="*/ 1926720 h 192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60" y="11165"/>
                  </a:moveTo>
                  <a:arcTo wR="-8148" hR="-8148" stAng="10645953" swAng="-6190919"/>
                  <a:lnTo>
                    <a:pt x="7869" y="405"/>
                  </a:lnTo>
                  <a:arcTo wR="10800" hR="10800" stAng="-6344965" swAng="6190919"/>
                  <a:lnTo>
                    <a:pt x="24286" y="10195"/>
                  </a:lnTo>
                  <a:lnTo>
                    <a:pt x="20445" y="14398"/>
                  </a:lnTo>
                  <a:lnTo>
                    <a:pt x="16243" y="10556"/>
                  </a:ln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250080" y="447876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3P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68440" y="4169880"/>
            <a:ext cx="20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yceraldehyde-3-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762280" y="1317600"/>
            <a:ext cx="1231920" cy="247680"/>
            <a:chOff x="2762280" y="1317600"/>
            <a:chExt cx="1231920" cy="247680"/>
          </a:xfrm>
        </p:grpSpPr>
        <p:sp>
          <p:nvSpPr>
            <p:cNvPr id="210" name=""/>
            <p:cNvSpPr/>
            <p:nvPr/>
          </p:nvSpPr>
          <p:spPr>
            <a:xfrm>
              <a:off x="2762280" y="13176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08520" y="1317600"/>
              <a:ext cx="24732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54400" y="13176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0640" y="13176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46520" y="13176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762280" y="1646280"/>
            <a:ext cx="1231920" cy="247680"/>
            <a:chOff x="2762280" y="1646280"/>
            <a:chExt cx="1231920" cy="247680"/>
          </a:xfrm>
        </p:grpSpPr>
        <p:sp>
          <p:nvSpPr>
            <p:cNvPr id="216" name=""/>
            <p:cNvSpPr/>
            <p:nvPr/>
          </p:nvSpPr>
          <p:spPr>
            <a:xfrm>
              <a:off x="2762280" y="16462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08520" y="1646280"/>
              <a:ext cx="24732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54400" y="16462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00640" y="16462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46520" y="16462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762280" y="1976400"/>
            <a:ext cx="1231920" cy="247680"/>
            <a:chOff x="2762280" y="1976400"/>
            <a:chExt cx="1231920" cy="247680"/>
          </a:xfrm>
        </p:grpSpPr>
        <p:sp>
          <p:nvSpPr>
            <p:cNvPr id="222" name=""/>
            <p:cNvSpPr/>
            <p:nvPr/>
          </p:nvSpPr>
          <p:spPr>
            <a:xfrm>
              <a:off x="2762280" y="19764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08520" y="1976400"/>
              <a:ext cx="24732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54400" y="19764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0640" y="19764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46520" y="19764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306840" y="2555280"/>
            <a:ext cx="668520" cy="610200"/>
            <a:chOff x="6306840" y="2555280"/>
            <a:chExt cx="668520" cy="610200"/>
          </a:xfrm>
        </p:grpSpPr>
        <p:sp>
          <p:nvSpPr>
            <p:cNvPr id="228" name=""/>
            <p:cNvSpPr/>
            <p:nvPr/>
          </p:nvSpPr>
          <p:spPr>
            <a:xfrm>
              <a:off x="6311880" y="25560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6840" y="25552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207200" y="2063880"/>
            <a:ext cx="1470240" cy="247680"/>
            <a:chOff x="7207200" y="2063880"/>
            <a:chExt cx="1470240" cy="247680"/>
          </a:xfrm>
        </p:grpSpPr>
        <p:grpSp>
          <p:nvGrpSpPr>
            <p:cNvPr id="231" name=""/>
            <p:cNvGrpSpPr/>
            <p:nvPr/>
          </p:nvGrpSpPr>
          <p:grpSpPr>
            <a:xfrm>
              <a:off x="7207200" y="2063880"/>
              <a:ext cx="1231920" cy="247680"/>
              <a:chOff x="7207200" y="2063880"/>
              <a:chExt cx="1231920" cy="247680"/>
            </a:xfrm>
          </p:grpSpPr>
          <p:sp>
            <p:nvSpPr>
              <p:cNvPr id="232" name=""/>
              <p:cNvSpPr/>
              <p:nvPr/>
            </p:nvSpPr>
            <p:spPr>
              <a:xfrm>
                <a:off x="7207200" y="20638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453440" y="2063880"/>
                <a:ext cx="24732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699320" y="20638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45560" y="20638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191440" y="20638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8429760" y="20638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207200" y="2398680"/>
            <a:ext cx="1470240" cy="247680"/>
            <a:chOff x="7207200" y="2398680"/>
            <a:chExt cx="1470240" cy="247680"/>
          </a:xfrm>
        </p:grpSpPr>
        <p:grpSp>
          <p:nvGrpSpPr>
            <p:cNvPr id="239" name=""/>
            <p:cNvGrpSpPr/>
            <p:nvPr/>
          </p:nvGrpSpPr>
          <p:grpSpPr>
            <a:xfrm>
              <a:off x="7207200" y="2398680"/>
              <a:ext cx="1231920" cy="247680"/>
              <a:chOff x="7207200" y="2398680"/>
              <a:chExt cx="1231920" cy="247680"/>
            </a:xfrm>
          </p:grpSpPr>
          <p:sp>
            <p:nvSpPr>
              <p:cNvPr id="240" name=""/>
              <p:cNvSpPr/>
              <p:nvPr/>
            </p:nvSpPr>
            <p:spPr>
              <a:xfrm>
                <a:off x="7207200" y="23986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453440" y="2398680"/>
                <a:ext cx="24732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99320" y="23986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45560" y="23986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191440" y="23986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8429760" y="23986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207200" y="2722680"/>
            <a:ext cx="1470240" cy="247680"/>
            <a:chOff x="7207200" y="2722680"/>
            <a:chExt cx="1470240" cy="247680"/>
          </a:xfrm>
        </p:grpSpPr>
        <p:grpSp>
          <p:nvGrpSpPr>
            <p:cNvPr id="247" name=""/>
            <p:cNvGrpSpPr/>
            <p:nvPr/>
          </p:nvGrpSpPr>
          <p:grpSpPr>
            <a:xfrm>
              <a:off x="7207200" y="2722680"/>
              <a:ext cx="1231920" cy="247680"/>
              <a:chOff x="7207200" y="2722680"/>
              <a:chExt cx="1231920" cy="247680"/>
            </a:xfrm>
          </p:grpSpPr>
          <p:sp>
            <p:nvSpPr>
              <p:cNvPr id="248" name=""/>
              <p:cNvSpPr/>
              <p:nvPr/>
            </p:nvSpPr>
            <p:spPr>
              <a:xfrm>
                <a:off x="7207200" y="27226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453440" y="2722680"/>
                <a:ext cx="24732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99320" y="27226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945560" y="27226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191440" y="27226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8429760" y="27226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436760" y="6326280"/>
            <a:ext cx="739800" cy="247680"/>
            <a:chOff x="1436760" y="6326280"/>
            <a:chExt cx="739800" cy="247680"/>
          </a:xfrm>
        </p:grpSpPr>
        <p:sp>
          <p:nvSpPr>
            <p:cNvPr id="255" name=""/>
            <p:cNvSpPr/>
            <p:nvPr/>
          </p:nvSpPr>
          <p:spPr>
            <a:xfrm>
              <a:off x="1436760" y="632628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83000" y="632628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28880" y="632628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36760" y="4857840"/>
            <a:ext cx="731880" cy="247680"/>
            <a:chOff x="1436760" y="4857840"/>
            <a:chExt cx="731880" cy="247680"/>
          </a:xfrm>
        </p:grpSpPr>
        <p:sp>
          <p:nvSpPr>
            <p:cNvPr id="259" name=""/>
            <p:cNvSpPr/>
            <p:nvPr/>
          </p:nvSpPr>
          <p:spPr>
            <a:xfrm>
              <a:off x="1436760" y="485784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82640" y="485784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20960" y="485784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436760" y="5151600"/>
            <a:ext cx="739800" cy="247320"/>
            <a:chOff x="1436760" y="5151600"/>
            <a:chExt cx="739800" cy="247320"/>
          </a:xfrm>
        </p:grpSpPr>
        <p:sp>
          <p:nvSpPr>
            <p:cNvPr id="263" name=""/>
            <p:cNvSpPr/>
            <p:nvPr/>
          </p:nvSpPr>
          <p:spPr>
            <a:xfrm>
              <a:off x="1436760" y="5151600"/>
              <a:ext cx="24768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83000" y="5151600"/>
              <a:ext cx="24768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28880" y="5151600"/>
              <a:ext cx="24768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36760" y="5445000"/>
            <a:ext cx="731880" cy="247680"/>
            <a:chOff x="1436760" y="5445000"/>
            <a:chExt cx="731880" cy="247680"/>
          </a:xfrm>
        </p:grpSpPr>
        <p:sp>
          <p:nvSpPr>
            <p:cNvPr id="267" name=""/>
            <p:cNvSpPr/>
            <p:nvPr/>
          </p:nvSpPr>
          <p:spPr>
            <a:xfrm>
              <a:off x="1436760" y="544500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82640" y="544500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20960" y="544500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436760" y="5738760"/>
            <a:ext cx="739800" cy="247680"/>
            <a:chOff x="1436760" y="5738760"/>
            <a:chExt cx="739800" cy="247680"/>
          </a:xfrm>
        </p:grpSpPr>
        <p:sp>
          <p:nvSpPr>
            <p:cNvPr id="271" name=""/>
            <p:cNvSpPr/>
            <p:nvPr/>
          </p:nvSpPr>
          <p:spPr>
            <a:xfrm>
              <a:off x="1436760" y="573876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3000" y="573876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8880" y="573876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436760" y="6032520"/>
            <a:ext cx="731880" cy="247680"/>
            <a:chOff x="1436760" y="6032520"/>
            <a:chExt cx="731880" cy="247680"/>
          </a:xfrm>
        </p:grpSpPr>
        <p:sp>
          <p:nvSpPr>
            <p:cNvPr id="275" name=""/>
            <p:cNvSpPr/>
            <p:nvPr/>
          </p:nvSpPr>
          <p:spPr>
            <a:xfrm>
              <a:off x="1436760" y="603252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82640" y="603252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20960" y="603252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095160" y="4428000"/>
            <a:ext cx="78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G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73400" y="4741560"/>
            <a:ext cx="19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sphoglycera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86800" y="5151600"/>
            <a:ext cx="739800" cy="247320"/>
            <a:chOff x="7786800" y="5151600"/>
            <a:chExt cx="739800" cy="247320"/>
          </a:xfrm>
        </p:grpSpPr>
        <p:sp>
          <p:nvSpPr>
            <p:cNvPr id="281" name=""/>
            <p:cNvSpPr/>
            <p:nvPr/>
          </p:nvSpPr>
          <p:spPr>
            <a:xfrm>
              <a:off x="7786800" y="5151600"/>
              <a:ext cx="247680" cy="24732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33040" y="5151600"/>
              <a:ext cx="247680" cy="24732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278920" y="5151600"/>
              <a:ext cx="247680" cy="24732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786800" y="3691080"/>
            <a:ext cx="731880" cy="247680"/>
            <a:chOff x="7786800" y="3691080"/>
            <a:chExt cx="731880" cy="247680"/>
          </a:xfrm>
        </p:grpSpPr>
        <p:sp>
          <p:nvSpPr>
            <p:cNvPr id="285" name=""/>
            <p:cNvSpPr/>
            <p:nvPr/>
          </p:nvSpPr>
          <p:spPr>
            <a:xfrm>
              <a:off x="7786800" y="36910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32680" y="36910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1000" y="36910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786800" y="3984480"/>
            <a:ext cx="739800" cy="247680"/>
            <a:chOff x="7786800" y="3984480"/>
            <a:chExt cx="739800" cy="247680"/>
          </a:xfrm>
        </p:grpSpPr>
        <p:sp>
          <p:nvSpPr>
            <p:cNvPr id="289" name=""/>
            <p:cNvSpPr/>
            <p:nvPr/>
          </p:nvSpPr>
          <p:spPr>
            <a:xfrm>
              <a:off x="7786800" y="39844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33040" y="39844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278920" y="39844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786800" y="4278240"/>
            <a:ext cx="731880" cy="247680"/>
            <a:chOff x="7786800" y="4278240"/>
            <a:chExt cx="731880" cy="247680"/>
          </a:xfrm>
        </p:grpSpPr>
        <p:sp>
          <p:nvSpPr>
            <p:cNvPr id="293" name=""/>
            <p:cNvSpPr/>
            <p:nvPr/>
          </p:nvSpPr>
          <p:spPr>
            <a:xfrm>
              <a:off x="7786800" y="427824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32680" y="427824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71000" y="427824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786800" y="4572000"/>
            <a:ext cx="739800" cy="247680"/>
            <a:chOff x="7786800" y="4572000"/>
            <a:chExt cx="739800" cy="247680"/>
          </a:xfrm>
        </p:grpSpPr>
        <p:sp>
          <p:nvSpPr>
            <p:cNvPr id="297" name=""/>
            <p:cNvSpPr/>
            <p:nvPr/>
          </p:nvSpPr>
          <p:spPr>
            <a:xfrm>
              <a:off x="7786800" y="45720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33040" y="45720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78920" y="45720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786800" y="4865760"/>
            <a:ext cx="731880" cy="247680"/>
            <a:chOff x="7786800" y="4865760"/>
            <a:chExt cx="731880" cy="247680"/>
          </a:xfrm>
        </p:grpSpPr>
        <p:sp>
          <p:nvSpPr>
            <p:cNvPr id="301" name=""/>
            <p:cNvSpPr/>
            <p:nvPr/>
          </p:nvSpPr>
          <p:spPr>
            <a:xfrm>
              <a:off x="7786800" y="486576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32680" y="486576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71000" y="486576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746520" y="4818240"/>
            <a:ext cx="731880" cy="247320"/>
            <a:chOff x="3746520" y="4818240"/>
            <a:chExt cx="731880" cy="247320"/>
          </a:xfrm>
        </p:grpSpPr>
        <p:sp>
          <p:nvSpPr>
            <p:cNvPr id="305" name=""/>
            <p:cNvSpPr/>
            <p:nvPr/>
          </p:nvSpPr>
          <p:spPr>
            <a:xfrm>
              <a:off x="3746520" y="4818240"/>
              <a:ext cx="24768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92400" y="4818240"/>
              <a:ext cx="24768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30720" y="4818240"/>
              <a:ext cx="24768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016600" y="500040"/>
            <a:ext cx="247680" cy="2476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81640" y="722160"/>
            <a:ext cx="247680" cy="2476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62520" y="555480"/>
            <a:ext cx="247680" cy="2476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06280" y="5157360"/>
            <a:ext cx="978120" cy="337320"/>
            <a:chOff x="206280" y="5157360"/>
            <a:chExt cx="978120" cy="337320"/>
          </a:xfrm>
        </p:grpSpPr>
        <p:sp>
          <p:nvSpPr>
            <p:cNvPr id="312" name=""/>
            <p:cNvSpPr/>
            <p:nvPr/>
          </p:nvSpPr>
          <p:spPr>
            <a:xfrm>
              <a:off x="206280" y="517536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1680" y="5175360"/>
              <a:ext cx="24732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36720" y="517536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3600" y="515736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9000" y="515736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06280" y="5892840"/>
            <a:ext cx="978120" cy="834480"/>
            <a:chOff x="206280" y="5892840"/>
            <a:chExt cx="978120" cy="834480"/>
          </a:xfrm>
        </p:grpSpPr>
        <p:grpSp>
          <p:nvGrpSpPr>
            <p:cNvPr id="318" name=""/>
            <p:cNvGrpSpPr/>
            <p:nvPr/>
          </p:nvGrpSpPr>
          <p:grpSpPr>
            <a:xfrm>
              <a:off x="928800" y="5892840"/>
              <a:ext cx="247680" cy="397800"/>
              <a:chOff x="928800" y="5892840"/>
              <a:chExt cx="247680" cy="397800"/>
            </a:xfrm>
          </p:grpSpPr>
          <p:sp>
            <p:nvSpPr>
              <p:cNvPr id="319" name=""/>
              <p:cNvSpPr/>
              <p:nvPr/>
            </p:nvSpPr>
            <p:spPr>
              <a:xfrm>
                <a:off x="928800" y="6043320"/>
                <a:ext cx="24768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928800" y="5892840"/>
                <a:ext cx="24768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71680" y="5892840"/>
              <a:ext cx="247320" cy="397800"/>
              <a:chOff x="571680" y="5892840"/>
              <a:chExt cx="247320" cy="397800"/>
            </a:xfrm>
          </p:grpSpPr>
          <p:sp>
            <p:nvSpPr>
              <p:cNvPr id="322" name=""/>
              <p:cNvSpPr/>
              <p:nvPr/>
            </p:nvSpPr>
            <p:spPr>
              <a:xfrm>
                <a:off x="571680" y="6043320"/>
                <a:ext cx="24732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1680" y="5892840"/>
                <a:ext cx="24732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928800" y="6329520"/>
              <a:ext cx="247680" cy="397800"/>
              <a:chOff x="928800" y="6329520"/>
              <a:chExt cx="247680" cy="397800"/>
            </a:xfrm>
          </p:grpSpPr>
          <p:sp>
            <p:nvSpPr>
              <p:cNvPr id="325" name=""/>
              <p:cNvSpPr/>
              <p:nvPr/>
            </p:nvSpPr>
            <p:spPr>
              <a:xfrm flipH="1" flipV="1">
                <a:off x="928800" y="6329160"/>
                <a:ext cx="24768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928800" y="6479640"/>
                <a:ext cx="24768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71320" y="6329520"/>
              <a:ext cx="247320" cy="397800"/>
              <a:chOff x="571320" y="6329520"/>
              <a:chExt cx="247320" cy="397800"/>
            </a:xfrm>
          </p:grpSpPr>
          <p:sp>
            <p:nvSpPr>
              <p:cNvPr id="328" name=""/>
              <p:cNvSpPr/>
              <p:nvPr/>
            </p:nvSpPr>
            <p:spPr>
              <a:xfrm flipH="1" flipV="1">
                <a:off x="570960" y="6329160"/>
                <a:ext cx="24732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flipV="1">
                <a:off x="570960" y="6479640"/>
                <a:ext cx="24732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06280" y="6329520"/>
              <a:ext cx="247680" cy="397800"/>
              <a:chOff x="206280" y="6329520"/>
              <a:chExt cx="247680" cy="397800"/>
            </a:xfrm>
          </p:grpSpPr>
          <p:sp>
            <p:nvSpPr>
              <p:cNvPr id="331" name=""/>
              <p:cNvSpPr/>
              <p:nvPr/>
            </p:nvSpPr>
            <p:spPr>
              <a:xfrm flipH="1" flipV="1">
                <a:off x="206280" y="6329160"/>
                <a:ext cx="24768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flipV="1">
                <a:off x="206280" y="6479640"/>
                <a:ext cx="24768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06280" y="5892840"/>
              <a:ext cx="247680" cy="397800"/>
              <a:chOff x="206280" y="5892840"/>
              <a:chExt cx="247680" cy="397800"/>
            </a:xfrm>
          </p:grpSpPr>
          <p:sp>
            <p:nvSpPr>
              <p:cNvPr id="334" name=""/>
              <p:cNvSpPr/>
              <p:nvPr/>
            </p:nvSpPr>
            <p:spPr>
              <a:xfrm>
                <a:off x="206280" y="6043320"/>
                <a:ext cx="24768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06280" y="5892840"/>
                <a:ext cx="24768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206280" y="6186240"/>
              <a:ext cx="24768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1680" y="6186240"/>
              <a:ext cx="24732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36720" y="6186240"/>
              <a:ext cx="24768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6840" y="6141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1880" y="6141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 rot="5400000">
            <a:off x="516960" y="5460840"/>
            <a:ext cx="357120" cy="452520"/>
          </a:xfrm>
          <a:custGeom>
            <a:avLst/>
            <a:gdLst>
              <a:gd name="textAreaLeft" fmla="*/ 55800 w 357120"/>
              <a:gd name="textAreaRight" fmla="*/ 312480 w 357120"/>
              <a:gd name="textAreaTop" fmla="*/ 113040 h 452520"/>
              <a:gd name="textAreaBottom" fmla="*/ 339480 h 452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3:32:31Z</dcterms:created>
  <dc:creator>Kim Foglia</dc:creator>
  <dc:description>All Rights Reserved. Copyright 2003. WD Interactive.</dc:description>
  <cp:keywords>Education Biology Zone Kim Foglia</cp:keywords>
  <dc:language>en-US</dc:language>
  <cp:lastModifiedBy>Kimberly Area School District</cp:lastModifiedBy>
  <cp:lastPrinted>2007-03-09T07:23:56Z</cp:lastPrinted>
  <dcterms:modified xsi:type="dcterms:W3CDTF">2008-02-27T20:58:53Z</dcterms:modified>
  <cp:revision>59</cp:revision>
  <dc:subject>AP &amp; Regents Biology</dc:subject>
  <dc:title>Whoops! Wrong Calvin…</dc:title>
</cp:coreProperties>
</file>